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312B-A07C-414C-83C8-FAC0A8BA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7EB-0CC5-45A8-898D-F7CA1279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F03-AAA3-4287-91C3-96DAAFDD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F0C-A99E-419B-B58A-590F103F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A044-A9B8-4F36-BDB9-088E9689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1A89-BD9E-4F6E-89A6-947459AF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B5FC-844E-4400-A75E-ED93C7F4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4E97-7C5D-4383-8FA5-984CE510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0ED3-200F-4DDC-948C-E2F0D8E9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21F6-D9EE-4548-A086-67A017D5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3D62-116E-4972-A824-4567625C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B23-BC7A-4188-8C6C-4230C1F7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D268-E416-4141-903D-50224F6E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4E74-A561-4B9C-A1CD-58048106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4678-DFDD-401B-A742-1A0B3955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639C-C8FB-477B-977C-0BECFE54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017D-AA55-414C-A7AE-12DC55A7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972E-5882-42EC-AA3A-3A94C0D4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E8C-FD8E-4B11-ADF3-58A247E3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532-1DE8-4AFE-A24B-50726318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B7BD-B93F-43C1-8E95-939EBAE0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4154-96AD-4F2F-82F0-C9DA7B50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EF0-88CC-4530-9911-AFD5A8A2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DF75-26E0-4C39-BEA2-AA296A9B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687fca"/>
              </a:gs>
              <a:gs pos="100000">
                <a:srgbClr val="66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687fca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E803-C839-4354-BE36-0DC6C04C2882}" type="slidenum">
              <a:rPr b="0" lang="en-US" sz="2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687fca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8FC4-4ECB-4F58-B246-B11ABBD0C370}" type="slidenum"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92449"/>
                </a:solidFill>
                <a:latin typeface="Times New Roman"/>
              </a:rPr>
              <a:t>Lighting</a:t>
            </a:r>
            <a:endParaRPr b="0" lang="en-US" sz="5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0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erry Broo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81680" y="44956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Halogen Bulb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cial type of incandescent bul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lled with pressurized halogen gas, which makes it more efficient than a regular bulb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ually smaller than a regular bulb, produces a whiter and more intense ligh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re expensive but last long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become very hot (1000F), can cause bur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Fluorescent Bulb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that is produced when chemicals inside a sealed glass tube transform ultra-violet r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duce various color ca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ually are long straight tubes, but can also be circular and U-shap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produce up to 10 times the light of a standard bulb of the same wattage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Fluorescent (con’t)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ok for the new compact fluorescent bulbs (CFL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se screw into regular light bulb socke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st more but last long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not be used with dimmer switches or electronic tim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Light Emitting Diodes LED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diode is a silicon “chip” about the size of a grain of salt and made of crysta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LED bulb can last 100,000 hours OR more (10x longer than CFL, 133x longer than a regular bulb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sidered to be the next major evolution in lighting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st starting in residential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Fiber Optic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ber optic lights are being used primarily in museums and for displays because they emit no heat and no ultraviolet li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flows through the glass strands and is focused at the e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Structural Lighting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built-in permanent lighting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xtures and wiring are hidden from view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: wall washer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soffit light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ip light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down-ligh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alence light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cove light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rnice light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uminous ceiling pane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Wall wash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recessed ceiling lights that spread light over a wall from ceiling to flo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Valence lighting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light source (usually a fluorescent tube) mounted over a window and hidden by window valenc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hines light both upward and downwa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Strip lighting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consist of a row of incandescent bulbs around top or sides of mirror in bath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Luminous ceiling panel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plastic panels covering fluorescent tubes. May cover all or part of ceiling, provides general ligh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Cornice lighting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mounted near the junction of wall and ceiling and directs light downward. Used to highlight wall hanging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Cove lighting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concealed light source that directs light upward toward the ceiling. Gives appearance of added heigh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Down light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direct a beam of light from ceiling downward. Can be accent or general lighting. Flush with ceil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emphasize the best features of a roo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ffects the way a room can be used. Inadequate light causes eye strain, affect comfort levels, and result in accident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Cool-white ligh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is very efficient, blends well with sunlight, and makes most colors look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Warm-whit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is efficient but NOT flattering to many col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Soffit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light enclosed in box-like structure that directs light downward. Usually a plastic panel diffuses the light, often used over kitchen and bathroom si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Non-structural Lighting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sists of fixtures that can be moved or replaced….various ceiling and wall fixtures as well as portable lamp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sider track lighting, wall sconce, chandeliers, hanging pendants, lamps of all types and siz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use all types of bulb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Lighting for Safety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events accidents that occur in dim light or dark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ke sure all fixtures have UL seal that shows that fixture meets safety guidelin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ke sure ALL wiring meets local and state electrical safety cod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 not overload outlets with too many lights. Can overload circuit and blow fuses or start fires in worst ca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Safety Issue in Lighting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e there switches at each doorway into room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at entrance of h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switch at top &amp; bottom of stai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e there controls for garage/carport lighting from inside the ho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you control outside lighting from inside the ho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Purposes of lighting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GENERAL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ghting: also known as background or ambient lighting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s just enough light so everything in the room can be see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ftens the shadows and harsh contrasts caused by other lighting sourc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:       Overhead light in any roo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0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andelier in dining roo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0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iling fan with ligh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Direct light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light that shines on specific are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Indirect ligh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reflected off ceilings and walls. More diffused and sof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TASK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lighting: focuses light on an area where it is needed mos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provide the best task light, shades should shaped so that light is directed downwa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:      Desk lamp illuminates a desk to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01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above a range or kitchen isl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01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on sewing mach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016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CCEN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lighting: aimed directly on a specific object to create a dramatic effec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the most dramatic effect, the accent lighting should be at least 3 times brighter than general light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:      Light over a special painting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0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ghts in a china cabin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comic"/>
              </a:rPr>
              <a:t>TYPES OF BULB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Incandescent Bulb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produced by electricity passing through a tungsten filament in a glass bulb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light tends to warm and flatter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lbs are available in variety of shapes and can be clear or frost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osted bulbs reduce glare and give a soft li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Incandescent bulbs (con’t)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all clear bulbs, used in chandeliers, give a sparkling effec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ailable in 15 to 300 wat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d in lamps, overhead lights, outdoor ligh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21:10:54Z</dcterms:created>
  <dc:creator> sherry brooks</dc:creator>
  <dc:description/>
  <dc:language>en-US</dc:language>
  <cp:lastModifiedBy>s.brooks</cp:lastModifiedBy>
  <dcterms:modified xsi:type="dcterms:W3CDTF">2010-03-08T16:55:11Z</dcterms:modified>
  <cp:revision>13</cp:revision>
  <dc:subject/>
  <dc:title>4.05 LIGHTING</dc:title>
</cp:coreProperties>
</file>